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5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move the slide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ftr" idx="5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 type="sldNum" idx="5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E849-9249-46DB-9255-6A8E1CEFD7C7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8A4049-5F0E-417D-AD45-062121A1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518DD5-83B8-4747-8681-FA09784A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E18A95-DC7F-4CD5-8F62-721E3884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44167A-63B3-4994-AFDB-25E946A4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1711A1-7AB1-42D4-9396-26C1864C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D28DAC-EB61-4B1A-855D-40A2D778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1C48BF-8C43-4260-9B5E-2DD8B79E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215B3B-FB7C-4398-B316-CDC6A3CA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A085C6-883F-4E45-B993-3FA74F88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4F4724-6D0D-4733-BF98-C1166555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32FCD5-6982-4150-94C2-C9133B82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28789D-CDA7-4427-9DC0-974E8EAD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A05A8D-6188-4446-B307-F96B4837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ED614E-B425-4EF9-B3FF-E4C6FB91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AFD039-6153-4BF2-A5AA-62D7FC69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305318-E7B1-457A-8A5C-77A69ABA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51EA1B-8213-4147-A0EA-75DBDE6A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F3FE8F-CE43-4263-BFD2-70586530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C7F81C-0665-4688-B77A-15A6067B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1256B6-E48E-4C8A-A50E-20F1291B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D06EF4-CA8B-4E2A-9A35-0CD74D7B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2FEA9A-FCF2-41C0-910C-EDD1B430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526E38-7291-4107-BF5F-DF7B4DC3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41D175-2F60-46EA-A898-FBDF7CE9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FEBBA7-FE54-4A2A-803A-F180AA6A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6D1E43-C434-41F7-A1D7-8A8A3436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641750-ACA0-4CED-A038-18E48BD2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687C0A-C747-4B1A-A46A-177D3261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539DD6-AA84-4732-8AF6-B21C5975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6688D7-66A5-49C9-82B5-DAD2DFB2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5FA1B-9EDF-4C91-9265-F306E6C4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545B9A-C2A9-41D5-BFC0-D6A2EED8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C888FA-1F55-4449-8401-C8E0BEF9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6DB4DF-ED29-4500-9CF3-CA7455C6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61CE52-6434-40BE-A20D-BD11D554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2125DB-6364-454C-B5A4-26960696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06B315-6928-4546-9574-6B01372C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FBFBA2-6BC0-4B42-B91A-A533163C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732DF5-26D7-4C9B-8526-8E7F6E2A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75F7D3-2485-4AD2-B8F7-65E17284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68A8C4-4896-47C3-957E-56561DD6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98A3F-33B0-406A-B572-48F05296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E98816-A2B7-4791-8C1C-B0A44A97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8B6ABE-837A-4CD6-A5A6-7CF9CC2B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4DEA00-98B8-4C16-8483-D1FA52FF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4DDCF8-3B81-4B4A-AAD6-3D9DAECC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5361AD-19BE-4637-8085-DD555BB8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222E40-5A12-4BA3-BD7F-95A57D7B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BB08F6-E2BC-4EA7-ADA8-88E8920C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2CA048-66B3-469B-9F7C-1F5DCF1A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E1E439-2456-4991-8E6F-E660A0CC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917EED-FAA1-4B59-BB5F-A5505341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A7038-022B-47F5-9DD5-83021C3C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0D6270-31E4-4F49-A3DC-1A53F338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E8E5AA-022A-40C4-B003-2E4DB194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310E08-875C-488F-97A6-B030C4A2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3E9DDB-4D80-4F66-98B8-57F214E7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CE9F69-F2FA-4BBC-BBBE-B013F6C7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91F4D8-632D-4074-864F-4F61B370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747A40-EF33-4FAB-BBC3-C567401C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5ACCD9-E006-4A69-9B66-CA3A3322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BFA710-D626-4F34-BEC5-5577A27F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9F1E61-C44B-482C-AE27-B5ACA1A7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7AACB-68D9-493B-9FB1-7B76E139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A0BD60-2876-4F1E-8671-58FAA053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C13A56-3C86-4AD0-A3DB-CAD12D87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B1DCAD-D47E-468C-B3C3-6C17EE7F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7B32F3-F836-410A-8D18-1FCC182D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B9C1A4-C013-4BAB-8926-083F324C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A4C122-F2EE-4152-8E67-EC74A5AD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D9F32F-0D66-43F4-93FE-F4CB258C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6A3CBE-F38E-4B82-90EE-4ED66D32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442CD5-38A9-4F11-99D7-87C21A93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656531B-8E6C-42F9-B37E-918175CF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F19C7-60E7-451F-B1CC-082D6C41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0144DF8-EDD1-4867-B161-8EDF61F8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319DEB7-3F94-44F4-AD30-34D6A08D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10A4892-78AD-4119-80D2-D4171F62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557E90A-DC42-43D3-8B2E-9D2A36F9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B05C246-AF2D-4DE2-8428-290BF805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A186D3-686B-4499-8D2E-A51BB57F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C3B18F-AFFD-430D-B0AC-AFCAAA24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7CE019A-9257-418B-9FFF-295698AE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9917B9A-8F0B-4887-8EBA-730A29B7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291EC09-1C85-4E10-B294-543BCCF2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7A96E-0EEE-4670-8AF5-BB59C9E2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2405AE2-F80A-4352-9787-3EACC8DB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C4A2BAC-A17F-4646-93FE-A7FA2762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E9EFE5B-11AD-40E3-A0D4-42DAC0E8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CDE778D-BEBA-4128-B285-E313AD7E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22C4487-C0C9-44C5-9318-63079EC5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B91454-E004-4886-BAAA-6D8B0440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558F3F0-3103-48CC-B492-684434E7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F315FA3-5C15-40AD-8300-5C5DABBD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8C4711E-529C-4DD1-BC1A-6300BD94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6B6866D-6103-48E7-A56F-E7C23EFA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22DD9-C7CF-478D-92C5-71629A62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ACA5FF9-434D-4F2D-A472-2335F82B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92F01BD-685C-45B1-AB26-F54C43B2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34087C-B889-432C-9229-081D17D3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A6CAA1A-7C8E-43F5-8BE4-1FDD8244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41E98AF-2573-4AF4-9EB7-81949BCA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455A244-D841-4EA1-9AD1-EEADED6C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972001A-88DD-4A8B-B413-CCDF010D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1576DFC-D9AE-416D-84B4-8A81E808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035337C-7282-43C9-B54F-069AA3B2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807350E-9CF8-4091-9CCB-1C72AE87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72DAE-B96E-4E5A-A8A1-A54C37F8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CD16A37-A133-4FC0-B4C9-788F55E1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2761158-B368-482D-B3FF-1BC107CD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662C7EC-B83A-4597-8D3B-7B455858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31642CA-D86C-48A1-822F-BF57CA06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9FBF7F6-F265-4C66-8344-63D6114E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8486A20-D64E-4D4E-9395-5CAD588B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9E76767-FD34-4CCB-BE04-B2E5A52C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BF13F4D-A7DF-4E88-9116-D8002008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F95EC18-2BCB-4D4C-9E30-56EE2104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FA91283-2A81-4E05-B7C2-7C17500C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4F40E-E187-4800-AF70-37A47FB6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F33546D-86CB-4095-BDC6-85300F87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DA4767F-A2E8-463F-A892-F2E77FD2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2A807FA-E9F4-4768-8CE4-77869FAB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38A9CDB-BE98-4F01-B0E3-365F7E2D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4528AAF-3D5D-491B-951B-DA280B73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D4F6F6A-ED43-48DB-B2D3-B257E050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F87C976-EED5-4F08-8C38-81102971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C916EC9-4FBD-4A94-B2FC-BB3863F8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DB2EAA7-2AD9-41BF-B30A-84547C17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16116F4-54DF-4CC9-8AD7-E13D3D3C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4C2AC-8A4B-42AD-9DE8-517EE08A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B809F6B-6EAE-40E2-AEF9-B63F4337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C58CBFF-E479-465D-9FC6-0B53D2AB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56C17F6-F318-42BF-BBCB-553F7D0B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B6536E4-F966-437E-BDA4-49F2BDF5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A2ED203-EDA0-46D5-8E21-8D0D57E6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B79ECBD-4C46-4DE7-AEBF-F95EB5C2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EA27E45-ECD2-4932-B153-518A5169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74B7CC2-1BFE-440E-BE31-51B3B50F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C9B1136-F773-4B37-BC20-74870D08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23C5B-8A85-47D5-8616-D395C253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3BC87-4197-46BD-9517-3B130C38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5D320C-6C0A-4FEB-8EA6-9E2D8023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70931C-0930-4DF4-AFF7-13167B61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BBA987-9237-4011-9A33-D15A06D0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43AB8C-7903-4636-B3A2-89661518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69F2A9-5520-4927-9F5F-AE462F4E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7184B8-6CD0-4D5B-AB95-BADC0DEE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396A52-938D-4981-88A7-2DB240C3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647556-065B-45FA-8053-14EF72B6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E08C66-938A-4525-B9A1-4BA77B4F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A57ED5-3DAC-4150-83C4-EA2E81D1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D22994-B0DB-445C-BBA8-06A75086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9DE680-DF83-48D3-A0AF-36054DEF3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8FFD29-4F54-402D-BEAF-5D48FC25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A15CAB-31A3-4734-941F-98BB2098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0FCA9D-D07A-41DC-9993-24377441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EBB214-9422-455A-9C94-51708432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779AF3-3AFB-47F8-BFA2-CA5BB096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B81E92-7869-4093-B47F-1F44D05C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33A86D-10A8-4646-AF5A-23B34546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9E18F1-BF5D-44DE-8CF8-29A13FC3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FD3B63-5ECA-4019-A79D-3F8B33CC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1AFC5B-7AAB-4632-9102-443D71C1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7CD715-305E-48FE-B4EB-0336DE3F9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8C6D05-16A1-40BE-9A10-B4719295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D195C7-1E18-4077-B319-59E5B924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A221F9-8BE7-4821-BBC4-31852191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3E7478-36E5-48DF-8F74-09415879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CF8C4A-1B6B-4D17-8085-AB11FF34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B21283-357D-4263-93C9-6BBC5AEB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52B7C0-8301-453C-9288-F9C2B17C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D227A3-C734-45BC-B799-3219E83A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973BCE-1432-46B1-805B-0DB1FC2C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48D123-1B41-4A39-B8D6-1D30E345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4C2416-85C7-4A03-936B-99AB1B13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92FDD1-EC1B-4C90-BBE7-1A65E827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CE83BF-102D-4978-BB52-EF9CD0A6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5AC4FA-E545-4AED-B1AA-4BC98C6E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F5C8D3-B710-4AD2-8352-4DD4830F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D91A87-0EF1-4846-8D98-549D8FB7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9E2E5F-A17E-4B48-84A9-D4464CD9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C270E0-51C3-4376-A325-3DE01A0E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D32E0E-9C86-42B2-873D-E0C55A14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2B7228-3307-429F-99CA-DD8EFF39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566BAE-D442-463B-B44B-8448070B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053C89-8944-43EF-B1B6-E0179489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C3EFCC-F166-4335-89C5-CA2E01DE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6D0F21-A00A-49D9-A9EF-C6712F6C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194EA2-C2EF-46F0-8283-3BE4546A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6B16F4-9945-488C-B1DB-E5E8126A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CB06D1-A234-45FF-B3CE-6AB6EECE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B7167C-068C-41FF-8655-9B0B6F65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5BFB37-8DEB-4CB9-AD02-C4752B1E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385FEF-34DC-4F59-AAE2-82D3A706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055DF5-6B75-4B09-8BE9-DDE30C58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A58EA5-F9F9-4D87-88CF-F19509DB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91DA97-D185-4917-87EF-3C820F90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1577DB-93BC-4AF6-81A2-4D3E0AA4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584727-A73C-4C36-BC95-9FD75B29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EA8137-ADC8-40A9-B885-B7B84415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D9A84F-269B-4301-ADB1-35A3A3A1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9EB04E-E76B-469E-9D64-2CDE1C10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64B341-D696-4151-8118-A3080CB4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5ED5AD-1216-4187-8F8A-AB0A5043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ABF7-B412-4CDB-A47C-B2C7A769C9F0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8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6ABF-7A9F-49CB-9725-3E3FA1DFF020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7F56-77F3-46E5-9F83-037828B35902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83A7-48EA-4914-9483-48794A2E272D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7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5C12-2DF9-4AFA-9F39-E72C49CFF6D8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0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B9E1-2669-4D2C-841D-2812B77B40AE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E3F7-4771-4982-81B9-0475D5059CCB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7008-B537-43B2-9334-AF9F39D5BBD5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34DB-2EC8-4ACD-84BF-482A5A29D98B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pic>
        <p:nvPicPr>
          <p:cNvPr id="748" name="Obrázek 5" descr=""/>
          <p:cNvPicPr/>
          <p:nvPr/>
        </p:nvPicPr>
        <p:blipFill>
          <a:blip r:embed="rId3"/>
          <a:stretch/>
        </p:blipFill>
        <p:spPr>
          <a:xfrm>
            <a:off x="-12708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TextovéPole 6"/>
          <p:cNvSpPr/>
          <p:nvPr/>
        </p:nvSpPr>
        <p:spPr>
          <a:xfrm>
            <a:off x="674640" y="879480"/>
            <a:ext cx="3349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54a6f"/>
                </a:solidFill>
                <a:latin typeface="Arial"/>
              </a:rPr>
              <a:t>MINISTRY OF REGIONAL DEVELOPMENT</a:t>
            </a:r>
            <a:br>
              <a:rPr sz="1000"/>
            </a:br>
            <a:r>
              <a:rPr b="1" lang="en-GB" sz="1500" spc="-1" strike="noStrike">
                <a:solidFill>
                  <a:srgbClr val="054a6f"/>
                </a:solidFill>
                <a:latin typeface="Arial"/>
              </a:rPr>
              <a:t>National Coordination Authority</a:t>
            </a:r>
            <a:endParaRPr b="0" lang="en-US" sz="15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sldNum" idx="5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BB1B-C280-45A0-AC7B-6A822C6AF08E}" type="slidenum"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5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50B5-ECC6-463C-9730-259C1C6C6AFB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02CE-1C7A-4FFA-9C81-1351E5A86369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0D5F-6C6A-420E-B31F-AD7E6C27990F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1F77-3647-4B75-9820-C6E8EA02BF52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FE1E-DDD4-4A8D-88FA-7BEE87732C9E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3A5B-DFBC-48A2-B74F-AEE494B9D4E0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2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893A-75DE-4155-B6B1-1C024F9AA240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900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54a6f"/>
                </a:solidFill>
                <a:latin typeface="Century Gothic"/>
              </a:rPr>
              <a:t>Raimonda Mackevi</a:t>
            </a:r>
            <a:r>
              <a:rPr b="1" lang="lt-LT" sz="1500" spc="-1" strike="noStrike">
                <a:solidFill>
                  <a:srgbClr val="054a6f"/>
                </a:solidFill>
                <a:latin typeface="Century Gothic"/>
              </a:rPr>
              <a:t>čiūtė, Visionary Analytics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700" spc="-1" strike="noStrike">
                <a:solidFill>
                  <a:srgbClr val="0070c0"/>
                </a:solidFill>
                <a:latin typeface="Century Gothic"/>
              </a:rPr>
              <a:t>Thinking outside the box:</a:t>
            </a:r>
            <a:br>
              <a:rPr sz="2700"/>
            </a:br>
            <a:r>
              <a:rPr b="1" lang="en-US" sz="2700" spc="-1" strike="noStrike">
                <a:solidFill>
                  <a:srgbClr val="f2af00"/>
                </a:solidFill>
                <a:latin typeface="Century Gothic"/>
              </a:rPr>
              <a:t>Methodological Innovations in Evaluation of Training Courses Funded by the ESF in Lithuania</a:t>
            </a:r>
            <a:endParaRPr b="0" lang="en-US" sz="27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1440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34ea2"/>
                </a:solidFill>
                <a:latin typeface="Century Gothic Bold"/>
              </a:rPr>
              <a:t>3.10.2018, MMR, Prague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900000" y="2276280"/>
            <a:ext cx="77392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The only way to know the needs is to ask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Big data is only for business and advertis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971640" y="22050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Job ads as the reflection of market need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Continuous 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process of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data min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Data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Weekly scraping of 7 largest vacancies websites (from May 2016)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54a6f"/>
                </a:solidFill>
                <a:latin typeface="Century Gothic"/>
              </a:rPr>
              <a:t>Approx. </a:t>
            </a: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5 k. unique adds each week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Classification by occupations (ISCO 4 digit), economic sector (NACE 4 digit), municipality and individual compan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Indicators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Aggregate and detailed demand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Hard to fill vacanc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Demand for specific competences and bottleneck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5" descr=""/>
          <p:cNvPicPr/>
          <p:nvPr/>
        </p:nvPicPr>
        <p:blipFill>
          <a:blip r:embed="rId1"/>
          <a:stretch/>
        </p:blipFill>
        <p:spPr>
          <a:xfrm>
            <a:off x="2340000" y="1754280"/>
            <a:ext cx="4024440" cy="246672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573280" y="1267920"/>
            <a:ext cx="399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4002120" cy="26370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4" descr=""/>
          <p:cNvPicPr/>
          <p:nvPr/>
        </p:nvPicPr>
        <p:blipFill>
          <a:blip r:embed="rId3"/>
          <a:stretch/>
        </p:blipFill>
        <p:spPr>
          <a:xfrm>
            <a:off x="4686480" y="4195800"/>
            <a:ext cx="3989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More “objective“ data (compared to interview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tinuous process of data collection: identification of tren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Flexibility, depending on the question (e.g. Labour demand by the level of education in LT region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Limitations determined by the chosen logic of the categorising (e.g. whether driving courses should be categorised as professional training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Only past and present trends (difficult to forecast the future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3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5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the 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Only qualified audit institutions can monitor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o evaluate the quality, we need to interview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Nobody wants to have their courses monitor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searchers monitor training courses themselv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ests before and after the trainings to evaluate whether the participants gained knowledg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Possibility to check information identified by organisers during the interview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Contact with participants and lectur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The lack of educational competencies to evaluate details and learning proces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Only one-day training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Low-scale example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0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2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the effectiveness of training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12"/>
          <p:cNvSpPr/>
          <p:nvPr/>
        </p:nvSpPr>
        <p:spPr>
          <a:xfrm>
            <a:off x="3348000" y="1330200"/>
            <a:ext cx="511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inking outside the box: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1" lang="en-US" sz="3200" spc="-1" strike="noStrike">
                <a:solidFill>
                  <a:srgbClr val="f2af00"/>
                </a:solidFill>
                <a:latin typeface="Century Gothic"/>
                <a:ea typeface="Arial"/>
              </a:rPr>
              <a:t>Methodological Innovations in Evaluation of Training Courses Funded by the ESF in Lithuania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2" name="Rectangle 13"/>
          <p:cNvSpPr/>
          <p:nvPr/>
        </p:nvSpPr>
        <p:spPr>
          <a:xfrm>
            <a:off x="3348000" y="59562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Raimonda Mackevi</a:t>
            </a: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čiūtė, Visionary Analytics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October 4, 2018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0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benefit analysis as a method that is unsuitable for the evaluation of social intervention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Impossible to get the necessary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An inflexible method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Labour Exchange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O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ffice combining different datasets and providing necessary data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effectiveness analysis of trainings for unemploy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75840" y="13078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720" y="1915920"/>
            <a:ext cx="4608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Possibility to evaluate the real impact of trainings in numbe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Identification of indicators that affect the results (e.g. the price of training courses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Comparison of different trainings as well as comparison of trainings and other active labour market measure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1640" y="1290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664160" y="1959120"/>
            <a:ext cx="447984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Does not show whether results were determined by trainings or other facto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The method can be applied only for an evaluation of particular measures and trainings (e.g. if the expected result cannot be monetised or turned into a binary variable, the method is unsuitable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8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nclusions and </a:t>
            </a:r>
            <a:r>
              <a:rPr b="0" lang="en-GB" sz="3600" spc="-1" strike="noStrike">
                <a:solidFill>
                  <a:srgbClr val="ffffff"/>
                </a:solidFill>
                <a:latin typeface="Century Gothic Bold"/>
              </a:rPr>
              <a:t>the </a:t>
            </a: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ain idea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7200" y="1773000"/>
            <a:ext cx="8686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No method is universal: combination of different methods is the only solut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Data exists (somewhere) but we need to make an effort to “find” it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The real aim of evaluations: to suggest ideas how to “get out” of the box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2"/>
          <p:cNvSpPr/>
          <p:nvPr/>
        </p:nvSpPr>
        <p:spPr>
          <a:xfrm>
            <a:off x="3492360" y="2398680"/>
            <a:ext cx="41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ank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y</a:t>
            </a: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ou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for your attention!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f00"/>
                </a:solidFill>
                <a:latin typeface="Arial"/>
                <a:ea typeface="Arial"/>
              </a:rPr>
              <a:t>Let’s discuss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9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6" name="Rectangle 13"/>
          <p:cNvSpPr/>
          <p:nvPr/>
        </p:nvSpPr>
        <p:spPr>
          <a:xfrm>
            <a:off x="250920" y="4653000"/>
            <a:ext cx="2305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4a6f"/>
                </a:solidFill>
                <a:latin typeface="Century Gothic"/>
                <a:ea typeface="Arial"/>
              </a:rPr>
              <a:t>Raimonda Mackeviciute</a:t>
            </a:r>
            <a:endParaRPr b="0" lang="en-US" sz="14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Junior Researcher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Visionary Analytics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7" name="Picture 8" descr="C:\Users\user\Desktop\FOTO\0X5A2886.jpg"/>
          <p:cNvPicPr/>
          <p:nvPr/>
        </p:nvPicPr>
        <p:blipFill>
          <a:blip r:embed="rId2"/>
          <a:stretch/>
        </p:blipFill>
        <p:spPr>
          <a:xfrm>
            <a:off x="317520" y="1708200"/>
            <a:ext cx="22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Object of the evaluation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Training courses funded by </a:t>
            </a:r>
            <a:r>
              <a:rPr b="1" lang="en-GB" sz="2400" spc="-1" strike="noStrike">
                <a:solidFill>
                  <a:srgbClr val="054a6f"/>
                </a:solidFill>
                <a:latin typeface="Century Gothic"/>
              </a:rPr>
              <a:t>the </a:t>
            </a: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European Social Fund in Lithuania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09" name="Picture 2" descr=""/>
          <p:cNvPicPr/>
          <p:nvPr/>
        </p:nvPicPr>
        <p:blipFill>
          <a:blip r:embed="rId1"/>
          <a:stretch/>
        </p:blipFill>
        <p:spPr>
          <a:xfrm>
            <a:off x="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ethodological innovations: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Survey of ALL beneficiar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Usage of big labour market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Real-time m</a:t>
            </a: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nitoring of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Cost-effectiveness analysi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2af00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im: to hear the beneficiaries‘ opin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ntacts are not availabl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Large scale surveys might be implemented only by survey compan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presentative sample is always the answer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mall surveys about selected cas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57200" y="2099880"/>
            <a:ext cx="86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questing contact detail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urvey of 100,000 trainings‘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mbination of online survey tools and cod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Many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more answ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Answers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to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open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ended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questions: ideas where else to look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Possibility to analyse answers on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a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particular level (e.g. financial instrument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ypical weaknesses of survey metho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GDPR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ime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suming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7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9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</a:t>
            </a:r>
            <a:r>
              <a:rPr b="0" lang="lt-LT" sz="2800" spc="-1" strike="noStrike">
                <a:solidFill>
                  <a:srgbClr val="ffffff"/>
                </a:solidFill>
                <a:latin typeface="Century Gothic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7:44:50Z</dcterms:created>
  <dc:creator>Zilvinas</dc:creator>
  <dc:description/>
  <dc:language>en-US</dc:language>
  <cp:lastModifiedBy>Jansová Lenka</cp:lastModifiedBy>
  <dcterms:modified xsi:type="dcterms:W3CDTF">2018-09-28T09:25:13Z</dcterms:modified>
  <cp:revision>37</cp:revision>
  <dc:subject/>
  <dc:title>Jaunimo geografinis, profesinis ir socialinis judumas: efektyvesnės ekonomikos ir teisingesnės visuomenės link</dc:title>
</cp:coreProperties>
</file>